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13701"/>
        <c:axId val="26660621"/>
      </c:barChart>
      <c:catAx>
        <c:axId val="31213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0621"/>
        <c:crosses val="autoZero"/>
        <c:auto val="1"/>
        <c:lblAlgn val="ctr"/>
        <c:lblOffset val="100"/>
        <c:noMultiLvlLbl val="0"/>
      </c:catAx>
      <c:valAx>
        <c:axId val="26660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3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7CC-864B-4931-9AF2-89E76E26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106-63C1-4436-9395-0775FED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4DF-F155-49B2-842B-92856E5B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25F-CD8A-4981-8D81-CAB67691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0FB-75A2-4EB9-990C-3C32B6E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2DE-5074-4B52-8E33-DE0E10F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8CF-8C00-4503-BFCD-35E3D01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535-2C58-4D6D-A579-F30FE401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77D-FEC3-4F3E-B662-30BF4A2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C15-3C83-4E15-ABD7-D2A43A4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017-9F53-40CD-BBD8-63C34D2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DAB-5002-45F1-9776-45CE802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67463-517E-4DE9-A788-33CFCACD8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