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948170"/>
        <c:axId val="5432471"/>
      </c:barChart>
      <c:catAx>
        <c:axId val="979481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2471"/>
        <c:crosses val="autoZero"/>
        <c:auto val="1"/>
        <c:lblAlgn val="ctr"/>
        <c:lblOffset val="100"/>
        <c:noMultiLvlLbl val="0"/>
      </c:catAx>
      <c:valAx>
        <c:axId val="54324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481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7A98-B7B0-46D5-B5A4-6E0E1F4B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94AB-4D55-4041-8A75-4EC3C81F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C962-A2C3-47EB-9D8F-3EA5719C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6912-FF58-4C9B-9A74-C62BBB51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C588-A711-4834-8075-303A27CD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F97A-E29B-4CAB-A268-941F2013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574D-4077-46A6-83D9-EC6EF2CC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3682-353B-43D0-AEFC-90D9EDEB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CB1F-E4AD-4FBB-A86D-F6A28C14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BB2A-BB18-491A-B45B-71B87E3F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8F73-B6DD-4A4D-ACC1-AAE51A0D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C847-6E0B-409F-AF97-052D3AF7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A42D9-A835-468A-8BC9-DAD38E76E2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