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64395"/>
        <c:axId val="75631678"/>
      </c:barChart>
      <c:catAx>
        <c:axId val="35864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1678"/>
        <c:crosses val="autoZero"/>
        <c:auto val="1"/>
        <c:lblAlgn val="ctr"/>
        <c:lblOffset val="100"/>
        <c:noMultiLvlLbl val="0"/>
      </c:catAx>
      <c:valAx>
        <c:axId val="75631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64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26C-1FA8-47E2-AA35-89EE5481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74E-0173-493D-BC08-67FFC45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E8D-7E93-4966-B9E3-B2787705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E08-C266-4C92-9A72-B53505FC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3D1-4857-4A11-AE7E-7F933339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DCB-7689-4902-B9F7-CF16B41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F52-74FB-495A-8D64-4164D71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AA5-D40A-425F-85CD-82383E0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926-2492-4C21-B8D0-19635B9E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77C-46F2-45A9-8051-C3FE706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E96-AB69-4FE1-BB58-BA872A77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C70-0EC9-4503-8C26-0193696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DAF5C-512F-40D6-9657-AF8AB30AF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