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11624"/>
        <c:axId val="74905323"/>
      </c:barChart>
      <c:catAx>
        <c:axId val="23911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5323"/>
        <c:crosses val="autoZero"/>
        <c:auto val="1"/>
        <c:lblAlgn val="ctr"/>
        <c:lblOffset val="100"/>
        <c:noMultiLvlLbl val="0"/>
      </c:catAx>
      <c:valAx>
        <c:axId val="74905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1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6F2-F4F4-498D-A00C-BE96C78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ADB-DF4B-462B-A52C-0D4D42EC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A23-8554-4121-89AE-D99CA1E2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696-3DA7-4C7C-B865-E0339FF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C59-85CF-494F-9A12-7A6B5BB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34D-6664-48ED-A175-36C827A8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77A-C14F-4EEB-A086-8852B57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186-DDDB-4891-8ADF-478136F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0BA-46F1-4C2E-B383-57E0C81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E41-FFF5-4508-97F2-C850D1E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1FC-A256-456A-BE63-908BF01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48A-5D7C-40B7-A648-05AB5F8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FA58-3FFD-4806-AEC7-5916C2285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