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01574"/>
        <c:axId val="98374365"/>
      </c:barChart>
      <c:catAx>
        <c:axId val="38901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74365"/>
        <c:crosses val="autoZero"/>
        <c:auto val="1"/>
        <c:lblAlgn val="ctr"/>
        <c:lblOffset val="100"/>
        <c:noMultiLvlLbl val="0"/>
      </c:catAx>
      <c:valAx>
        <c:axId val="98374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01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9D9-1FBC-4AFE-8756-DF3E9ECD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811-FD27-404F-A500-F4E5F471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3AA-4BAF-4659-A4FD-9294CD87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AEE-F84A-4498-9F1E-796AD95A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51B-D129-4F66-A657-E5B08C5A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D82-F354-4F58-938F-CB5215F5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545-AEB2-4A81-8AA8-AF2A1BE7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B78-00F5-42E6-B91A-E6A79AA3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846-2E07-480C-BE99-5A202A7B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0AA-CDBD-41C0-8FA3-BF9158DB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AB8-4808-4F5C-A048-86C0879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AD5-4A0C-4566-B8A5-E74B5D6A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344AA-CFD9-420A-85EB-65737F9B5F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